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82427"/>
        <c:axId val="27672297"/>
      </c:barChart>
      <c:catAx>
        <c:axId val="97482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72297"/>
        <c:crosses val="autoZero"/>
        <c:auto val="1"/>
        <c:lblAlgn val="ctr"/>
        <c:lblOffset val="100"/>
        <c:noMultiLvlLbl val="0"/>
      </c:catAx>
      <c:valAx>
        <c:axId val="27672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82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A72-A31B-446E-BBC5-B8E070C6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D68-E25A-4B84-B500-51A66DF0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150-F3F5-4ECB-A125-A7BF0D69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03A-A238-4973-A466-99539F1C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5DC-9EF6-4B82-99E5-26A23798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EAB-9ED3-4E79-B2DC-84E0ABA4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21C-9AA4-4FE5-B60D-126AF421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C3E-2C44-42A5-B0C9-16A54C0E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067-5B62-43D6-98F7-70212D00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007-C710-474E-8A33-94DC320F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9FC-0E39-4A26-A062-3AFF44D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DC2-2F24-4848-B090-B8B5B13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AF477-95AF-4852-8DDB-9C6922B5FC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