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89404"/>
        <c:axId val="83158958"/>
      </c:barChart>
      <c:catAx>
        <c:axId val="90689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58958"/>
        <c:crosses val="autoZero"/>
        <c:auto val="1"/>
        <c:lblAlgn val="ctr"/>
        <c:lblOffset val="100"/>
        <c:noMultiLvlLbl val="0"/>
      </c:catAx>
      <c:valAx>
        <c:axId val="831589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89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965-24DF-4532-B4D2-F905CEEC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556-2261-4044-83C7-68A3C9E5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EC7-3246-42DC-9466-8754DDCF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96E-B28F-4183-9D05-31642B15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E92-19F3-4F28-B9D0-155E99F5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0DB-B075-476E-9DF9-0D7296B4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6BC-530F-41AD-BDDC-1BBDC6D2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165-336D-4C7E-9FD0-13F4CEAE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878-472D-4674-AFBB-3DEA9658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59F-DE96-4F0F-BCF0-4F3BD8E1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D74-D726-4B7C-8CF3-ED4AE28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AB1-84BA-4E32-88E8-3F5822A3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CAA23-FDBE-4779-9AC0-1A2191F3ED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