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62980"/>
        <c:axId val="99992446"/>
      </c:barChart>
      <c:catAx>
        <c:axId val="81262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92446"/>
        <c:crosses val="autoZero"/>
        <c:auto val="1"/>
        <c:lblAlgn val="ctr"/>
        <c:lblOffset val="100"/>
        <c:noMultiLvlLbl val="0"/>
      </c:catAx>
      <c:valAx>
        <c:axId val="999924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62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546-6D08-4B78-93BA-79037C28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E2C-2A5F-41BD-B066-77795C78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0694-FB19-4B36-83CD-FA13B99E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E4A-D998-47D5-AF78-4B7478626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EB0-D8CC-4F8E-80FE-51E523D5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C091-86C1-41BE-8B1B-67DF36CC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D34-A9B7-42A5-84C8-ADA70CA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D49-7CE3-46E4-AD85-B1BED1F7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D99-0EEA-4B51-AD39-08E2125F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52C-518E-4540-8DBF-170FE2B6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DF5-6319-4644-AED3-9E59C0ED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8C4-076B-4101-A2FF-FA1F4FD2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E41E8-EAFB-4852-8751-E18C993EDA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