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70219"/>
        <c:axId val="18708791"/>
      </c:barChart>
      <c:catAx>
        <c:axId val="17970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8791"/>
        <c:crosses val="autoZero"/>
        <c:auto val="1"/>
        <c:lblAlgn val="ctr"/>
        <c:lblOffset val="100"/>
        <c:noMultiLvlLbl val="0"/>
      </c:catAx>
      <c:valAx>
        <c:axId val="18708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0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E7C-2B42-42AB-AB74-F74C335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868-F1A5-41EB-AA83-75D6A0A7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4AC-9D02-454E-8E21-2A24D2FF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41F-9049-46F8-9653-363ABBA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FF9-D570-4174-A5F4-1FB5F5BB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A22-82EC-4D1D-9DFC-F7661D9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BCD-8B97-46A7-B3A6-833B13F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A8E-EF0C-41B0-AAB7-1CC78C8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82C-B38A-4AFB-A3CC-AAE5A91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CA7-29B4-457E-95DD-DDD38FF3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B32-71CC-4EAF-9359-C07C00E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FC0-3655-412C-BCF9-2F261A3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BFEF8-B5CE-4647-8F1C-6912F19D1B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