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7846"/>
        <c:axId val="13790115"/>
      </c:barChart>
      <c:catAx>
        <c:axId val="24377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0115"/>
        <c:crosses val="autoZero"/>
        <c:auto val="1"/>
        <c:lblAlgn val="ctr"/>
        <c:lblOffset val="100"/>
        <c:noMultiLvlLbl val="0"/>
      </c:catAx>
      <c:valAx>
        <c:axId val="13790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7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E48-7B64-4CC9-9754-AF9FEF3F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2DB-047C-40F6-B496-EC212DB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8D7-759D-42F8-9020-FBF9C86B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55C-81AC-4D47-9220-35FB76D7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5ED-E5D1-49EB-BB1C-F5B9E4FD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86B-40C8-4D46-9E1F-931D2BDC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553-50AF-404F-8457-48B0B01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4CC-50C0-4A47-9540-86E499DD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235-8227-4D73-85E1-3DF62E65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E87-B484-46AA-A11E-163752B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552-5490-46CE-A9AA-39959E4A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ED0-0285-4410-B503-A26212B9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5304C-42A4-41AC-A331-95AE9925B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