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442784"/>
        <c:axId val="4191181"/>
      </c:barChart>
      <c:catAx>
        <c:axId val="984427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91181"/>
        <c:crosses val="autoZero"/>
        <c:auto val="1"/>
        <c:lblAlgn val="ctr"/>
        <c:lblOffset val="100"/>
        <c:noMultiLvlLbl val="0"/>
      </c:catAx>
      <c:valAx>
        <c:axId val="41911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4427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1ED3-7A68-445F-99DC-5F753FEDB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85C0-BB25-4FE2-96BD-9E73D0BC2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99D6-F281-47F9-A6CF-038EF5890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42D4-E424-4DF4-AA8A-509E2A88A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46AD-688E-4BE9-A5BF-7D83DB13F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841E-22CC-4781-9479-6D7D132ED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594E-4B6E-495C-84CC-CAD1AF183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43BF-E28D-4E15-A5E9-8D74A26B8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A068-2D1F-4C1B-AFB8-1A3E3A56E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9DCA-A877-49F9-9F7A-81AB954F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9DF4-2B9E-4123-992F-E462F29B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E4A9-D242-4FF5-A12B-027B63D1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5A102A-6414-448D-8BE3-6E1A5B75A01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