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07610"/>
        <c:axId val="99016851"/>
      </c:barChart>
      <c:catAx>
        <c:axId val="83207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16851"/>
        <c:crosses val="autoZero"/>
        <c:auto val="1"/>
        <c:lblAlgn val="ctr"/>
        <c:lblOffset val="100"/>
        <c:noMultiLvlLbl val="0"/>
      </c:catAx>
      <c:valAx>
        <c:axId val="99016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07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87A-845F-4D8A-964A-CD03F98D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AB6-3504-424F-BDCC-A1777030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3DB-4FFA-47FE-896D-660AB704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340-7001-44E8-B095-7862351F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64A-F1C5-44A0-A920-95C07AD0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C21-BD2F-4681-AECE-96506191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F9D-2C49-4B39-8AAA-59BCA3F0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C9A-B997-4125-9CC3-61C2F5F3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AE9-3E1D-44D8-A120-9218DBD4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C26-B13B-46A1-BF4E-2DC1B80A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67E-963D-4DC8-8CCF-E7DE272E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A4F-428A-405D-99C6-756533C1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BDAFC-3A3F-4653-9F34-B8EC012E98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